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A10-0482-4E2E-A4A3-C6282DFD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0C3-BF79-488E-B4BF-BB502654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AFF-4121-4E1A-8BC8-1DE03063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54E-30B4-4304-90A2-5D7DA22F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CA9-1EE0-4630-8782-0B43C5B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579-6D08-455D-A331-9C383F4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464-3FF6-40CB-8F36-6F32790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630-E428-4874-A04F-CAAAA3C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8C4-BF8C-44DC-8B8D-776CB39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132-DB51-46DB-BB8C-1348153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A96-C2C7-4CF5-B56B-5F8FD70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779-26CF-45BD-A623-DC0783C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35C4-A9BD-4BFD-A00D-D41FD4D9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 Usage and 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mmas where needed in the follow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 a sport Raines should quit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ort Raines should qui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sentenc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n will I am sure, b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’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word(s) that should be followed by a comma and put one after the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We’re eating dinner now but I’ll call you back as sonn as we fi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re you busy Friday night or would you like to go to the movies 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Don’t forget to take your history book home this weekend for the test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he recipe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ly’s Coo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dapted for the modern cooks yet the ingredients listed are all tra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Quilting is a practical folk art and it is also a relaxing and enjoyable pas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no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eeke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ook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noun does not agree with its antecedent write the correct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Each of the skiers waxed their skis every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Every one of the reporters at the press conference asked their questions too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I think that anybody should be free to express their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Both of the male soloists pronounced his words cle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f anyone gets lost while exploring Salt Lake City, they should use the street maps available from the tour g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As far as I could see, each of the speakers made a mistake while presenting their argument during the deb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to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is or her or an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he or 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371600" y="2438280"/>
            <a:ext cx="613404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End Enjoy your studing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the Quiz 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pronoun should refer clearly to its _____. Fill in th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Jack wants to go to their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with thi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whose farm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ree personal pronouns should you a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, it, and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hould the comma go in the following sentenc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you are welcome to jo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ecause its an introducto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9:06:25Z</dcterms:created>
  <dc:creator>User</dc:creator>
  <dc:description/>
  <dc:language>en-US</dc:language>
  <cp:lastModifiedBy>User</cp:lastModifiedBy>
  <dcterms:modified xsi:type="dcterms:W3CDTF">2006-10-10T19:12:16Z</dcterms:modified>
  <cp:revision>3</cp:revision>
  <dc:subject/>
  <dc:title>Revision 1 </dc:title>
</cp:coreProperties>
</file>